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applause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ECF-DE6A-4FE0-AE96-61012958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36C-C975-49F7-B220-041398CC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365-4005-47A8-8A51-8DB110A6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900-A0E3-44C4-9DFA-D76DDC86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CDB7-0C04-48D7-9EB4-245B8D41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D570-2AE9-431D-8D32-086829E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47C-4793-4EF0-83AC-15FFE224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A53-B384-48E3-8A3B-2A37AE5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703A-9463-4110-B717-46EDDA3E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90D7-E44E-4B27-8A0C-C862E793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94FC-0752-4189-BC7E-723F0F1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F52-F135-45EC-B2EF-C840045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CFB1-7B10-4A89-8A8D-CABAD01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A6B9-4B93-4D2A-9CD4-00121753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07D5-B0E3-44EA-8192-9A6B204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E908-179B-427A-BD18-17EAE010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91C7-A08E-44B6-A24B-DC33752C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659-90A0-4F82-98AC-482565C2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28F-FC8B-4AEC-AF68-A8AC9F5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BE1-258A-413E-852C-EDA94159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FDA-13B1-4AB6-91B0-05602A1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398-058A-4A7F-A4A1-8E3A289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2CA-ED3C-474E-A845-AA9C887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35D-6624-481B-9B54-19617C95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9DD6-283B-46E8-A6E5-CC188C94AC6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D88-F9F5-4068-99EB-683BCCB56F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cc66"/>
                </a:solidFill>
                <a:latin typeface="굴림"/>
              </a:rPr>
              <a:t>우리 사회의 학벌</a:t>
            </a:r>
            <a:endParaRPr b="0" lang="en-US" sz="7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양고등학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년  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무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244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A: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그럼 본격적으로 질문 들어가도록 하겠습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우리 사회에 학벌이 현재 어느정도 심각하다고 보십니까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B: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엄청나게 심각합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고등학교 때 열심히 피터지게 공부해봐야 어차피 정해진 답 찍는 거고 잘못해서 출제자 의도를 파악 못하거나 구경했던 문제가 아니면 정해진 시간 안에 많이 맞추긴 애당초 글른 것이겠죠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그렇게 해서 대학엘 가고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년을 마치면 사회에서 바라보는 선입견은 여전히 학벌이죠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그래서 서울대 나왔다고 하면 속으로 괜히 있어보이고 당사자 자신도 왠지 우쭐한 마음이 들고 멋있어 보이려고 애쓰죠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하지만 지방대나 전문대 출신은 처음부터 무시하고 들어갑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왠지 모잘라 보이고 자기도 전문대 출신이면서 같이 무시하고 친구도 안하려고 하는 속물이 되어버립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59840" y="11574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32040" y="523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007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71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571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4092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현재 우리 사회 주류를 형성하는 관리자급은 대부분이 명문대 출신입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들이 사람을 선발하는 과정에서 다시 학력을 보고 자신들의 동문을 관리자급에 등용시키면서 권력의 학벌화는 후배들에게 이어지고 심지어는 왜곡된 교육제도로 세습되기까지 합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근데 가장 큰 문제는 학생들의 잠재력과 적성이 학교시절부터 무시당하고 대입시험 결과에 따라 학벌로 인해 현대판 계급사회가 돼버릴 수 있다는 것이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즉 학생들은 중고등학교 시절부터 개성과 개개인의 다양성을 키울 수 있는 질 높은 교육을 받을 권리가 있는데 이것 자체가 현 교육제도 하에선 불가능하고 그것이 대학입학 과정에서 학벌로 판가름이 나면 세상 사람들이 선입견을 가지고 그 사람을 판단하고 심지어는 취업이나 승진에도 영향을 미치게 되는 것이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A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듣고보니 정말로 심각하군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럼 학벌과 업무능력과는 상관관계가 있다고 생각하십니까 어떻습니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물론 이런 건 있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아탑의 우수한 두뇌들 속에서 살아남은 구직자들은 취업 전선에서도 일반적으로 “끈기” 그것 하나만은 높은 가치를 부여할 수 있을 겁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지만 나머지 능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즉 의사소통 능력이라든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실무능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창의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리더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인관계 같은 것들은 얼마든지 학벌과 상관없이 그 능력이 발휘될 수 있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또 공부만 하고 취업전선에 뛰어든 사람과 원하는 직업을 얻기 위해 돈과 시간과 노력을 투자한 사람과는 여러 가지 능력 면에서 차이가 있을 수밖에 없지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결론적으로 학벌이 좋은 사람은 인내와 끈기 면에서 좋은 점수를 줄 수 있겠지만 나머지 면에 있어선 학벌이 좋지 않은 사람들과 동등한 조건에서 경쟁해야 합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물론 학벌이 안좋은 사람들 중에서도 인내와 끈기가 많은 사람들이 많이 있겠지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왜냐하면 꼭 공부를 못했다고 해서 인내와 끈기가 없다고는 볼 수 없잖아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 생각은 그렇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37000" y="31910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066080" y="61596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129280" y="2502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4964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146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646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59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1239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1739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5317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A: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다음 질문 하겠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럼 학벌을 뿌리뽑기 위해선 어떻게 해야 한다고 생각하십니까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B: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학벌 문제는 우리나라의 낙후된 교육제도와도 연관되어 있기 때문에 우선 교육제도와 교육환경을 대폭적으로 손 볼 필요가 있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우선 학교에서는 시험문제 풀기 위주의 교육에서 이론과 실제를 같이 연마하는 교육과정의 대폭 손질이 필요합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리고 과목도 단순 언어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외국어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수리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탐구와 같은 전통적인 이론 과목에서 벗어나 정보화 시대의 직업탐구 과목을 상설화해야 합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리고 학급당 인원수도 대폭 줄이고 토론을 비롯한 수행평가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집중탐구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논술같은 사고력 증진 교육과정도 포함시켜야 합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이렇게 하여 이런 교육과정을 공교육 시스템에서 충실히 교육하되 평가는 지양하면서 지금과 같은 시험평가를 통한 경쟁의 극대화가 아닌 절대적으로 평가는 개개인의 실력측정 차원에서 다뤄져야 합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러기 위해서는 우리나라 현행 대입제도도 대폭 손질할 필요가 있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제가 이번 수능시험의 직업탐구 과목인 “컴퓨터 일반” 이란 과목의 문제를 살펴보았는데 다 천천히 풀어보면 해결할 수 있는 문제였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다만 제한시간이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분이란 것이 너무나 황당하더군요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저도 컴퓨터 전공이라 잘 아는데요 아무리 실업계 학생이라고 해도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분 안에 이런 문제를 다 해결한다는 것은 불가능한 일입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물론 다 푸는 학생이 있을지도 모르겠죠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하지만 항상 그런 왜곡된 평가체계가 공부의욕을 떨어뜨리고 창의성을 갉아먹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이렇게 해서 중고등학교 교육과정과 대입제도를 손 본 다음에 대학에서 내실있는 전공교육이 이뤄지고 학벌이 사회에 진출하는 과정에서 우리는 중요한 조치를 내려야 합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바로 입사지원서에 학력 기재란을 아예 없애는 것이죠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이것이 왜 중요한 것인고 하면 이제 학력과 업무능력과는 상관이 없다는 것이 드러난 상황에서 지금까지 선배들이 애용했던 학벌을 타파하기 위해선 이런 조치가 반드시 필요하다는 얘깁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법적으로 제도화하여 강력히 제재함으로써 취업자들이 학벌로 인한 불이익을 받는 것을 원천적으로 차단시킬 필요가 있습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이것은 이전 노무현 정부에서 시도한 적이 있는데 학벌을 주창하는 기득권의 반대로 인해 무산되었던 사안이죠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상고출신의 대통령을 배출한 상황에서조차도 말입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렇기 때문에 대국민 계도와 홍보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그리고 사회적 합의의 도출이 중요하다는 겁니다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2600" y="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109000" y="6235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78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377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877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377"/>
                            </p:stCondLst>
                            <p:childTnLst>
                              <p:par>
                                <p:cTn id="2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877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4253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4247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A: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정말로 좋은 묘안이군요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꼭 사회적 합의와 지도층의 결단이 있었으면 좋겠다는 생각이 듭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Blrun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님은 앞으로 학벌주의가 개선되리라고 보십니까 어떻습니까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B: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얼마전 뉴스를 보니 삼성전자가 입사지원서에서 학력란을 삭제하기로 했다는 기사가 나오더군요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또 서울대가 신입생 추가모집에서조차도 미달사태를 빚기도 하였습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또 어떤 여론조사를 보니까 구인담당자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명 중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명이 학력란 철폐에 찬성한다고 말했다는 기사가 나오더군요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한가지 퍽 다행스러운 건 최근 대학입시에서 간판보다도 학과를 중시하는 소신지원이 눈에 띄게 많아졌다는 점입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서울대 비인기학과가 미달되는 와중에 지방대 일부 인기학과가 고득점자로 넘쳐난다는 겁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뭐 일시적인 현상인지는 모르겠지만 이런 경향이 뚜렷해진 것만은 분명합니다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77120" y="1459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38160" y="5524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412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62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12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4408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24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A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마지막으로 하시고 싶은 말씀 간단하게 해주시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상은 변했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7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대식 교육으로는 앞서가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기 무대의 국제경쟁력을 확보할 수 없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지만 정부도 그렇고 교육부도 그렇고 여기에 좀처럼 성의를 보이지 않고 있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게 공무원들의 무사안일주의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제 더 이상 말하지 않겠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어떤 것이 학벌을 철폐하는 길이고 누가 먼저 그런 노력을 해야하는지 다 아는 이야기 아닙니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제 앞으론 점점 더 낙후된 교육제도와 학벌은 설자리를 잃고 실력위주의 사회가 도래할 겁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물론 그 속엔 경쟁이란 것이 도사리고 있겠지만 교육제도와 사회적 인식의 변화가 확대되면 충분히 지금보다 다양한 분야에 걸출한 인재들이 나올 수 있습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제 우리 사회는 내 아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 학교가 얼마나 공부를 잘하고 좋은 학교에 많이 들어갔는가에 에너지를 쏟기보다 우리 아이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 이웃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리고 우리학교가 얼마나 독자적인 인재를 한사람의 낙오자없이 많이 배출하는가에 열정을 쏟아야 합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러려면 자신부터가 이런 인식을 확고히 하고 주변에서부터 하나씩 실천하면서 후배들에게는 선배들이 밟은 악습을 물려줘서는 안되겠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리고 학생 여러분들께 해주고 싶은 말은 모든 변화의 주체는 나 자신이라는 겁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신이 학벌에 대해 어떠한 생각을 가지고 있고 대응논리를 가지고 있느냐에 따라 이 사회도 점점 변화를 할 수밖에 없는 상황으로 내몰린다는 겁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 자신부터가 학벌에 한없이 끌려다니다보면 이 사회는 학벌의 구덩이에서 좀처럼 헤어나오기 어려울 것이고 나 자신부터가 간판이 아닌 실력과 끈기로 승부하다보면 학벌은 점점더 설자리가 없어지는 거지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상입니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64320" y="47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550360" y="5427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19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693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193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693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9546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굴림"/>
              </a:rPr>
              <a:t>감사합니다</a:t>
            </a:r>
            <a:r>
              <a:rPr b="0" lang="en-US" sz="6000" spc="-1" strike="noStrike">
                <a:solidFill>
                  <a:srgbClr val="ffcc66"/>
                </a:solidFill>
                <a:latin typeface="굴림"/>
              </a:rPr>
              <a:t>.</a:t>
            </a:r>
            <a:endParaRPr b="0" lang="en-US" sz="6000" spc="-1" strike="noStrike">
              <a:solidFill>
                <a:srgbClr val="ffcc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1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2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3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4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5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6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주의 설문조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7</a:t>
            </a: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번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413000"/>
          <a:ext cx="8650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50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굴림"/>
              </a:rPr>
              <a:t>학벌에 대한 인터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A: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네티즌 칼럼을 운영하시는 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Blrun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님과 우리사회에 만연되어있는 학벌주의에 대해서 인터뷰를 갖는 시간을 가져보겠습니다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A: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안녕하세요 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Blrun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님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B: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네 안녕하세요 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A: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학교 사회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문화 팀활동 과제로 학벌주의에 대한 심화조사를 하게되었습니다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인터뷰에 응해주셔서 감사합니다</a:t>
            </a:r>
            <a:r>
              <a:rPr b="0" lang="ko-KR" sz="26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B: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별말씀을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평소에 이문제를 꼭 짚어봐야한다고 생각했는데 이런 기회를 만들어주시니 제가 감사하죠 뭐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987640" y="341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5327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00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19"/>
                            </p:stCondLst>
                            <p:childTnLst>
                              <p:par>
                                <p:cTn id="1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19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33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3358"/>
                            </p:stCondLst>
                            <p:childTnLst>
                              <p:par>
                                <p:cTn id="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858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2835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693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193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041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7604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10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82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9:08:48Z</dcterms:created>
  <dc:creator>이윤찬</dc:creator>
  <dc:description/>
  <dc:language>en-US</dc:language>
  <cp:lastModifiedBy>이윤찬</cp:lastModifiedBy>
  <dcterms:modified xsi:type="dcterms:W3CDTF">2008-12-03T12:05:16Z</dcterms:modified>
  <cp:revision>16</cp:revision>
  <dc:subject/>
  <dc:title>우리 사회의 학벌</dc:title>
</cp:coreProperties>
</file>